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2177-CABC-4A9E-88CB-98027F11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7A47-256A-45D3-9278-855B6926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678E9-F409-432B-881E-14E82C7B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BD6FE-A6BB-4E14-BFBE-E1865D52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13B39-907A-4DEF-BEFF-EA4C3256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C5BCF-977C-488F-8E71-FF23AB97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54C48-634A-40B3-8A13-75943D4A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B17B1-1E01-412F-83F9-A85D3275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640C0-823C-4999-869E-6DF940C5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1E5EE-3ACD-4B64-8608-5358DBED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2F0CC-E30E-4E53-85D1-CBD28E5B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DAC5C-F2A0-4126-9617-30D4F37C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437C-CCBB-4A88-BC73-8F0868B6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36F9C-8825-4CFC-80A2-DBF9132C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DD8C8-4E51-4D42-A4C0-03C703BA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38586-3D28-41A8-AA4D-C5D18F47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C291A-21F2-4A80-8910-FB8AEB47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262D1-64DB-4D64-97F8-8B65A5DE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E9955-5DFB-4CFB-93CB-60B6C32F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3E799-1794-43DE-910A-02E54E80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58D16-45B3-4F03-A599-46106B83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77BA1-AD46-4EB8-A8AD-5DA25936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ACE2C-1C94-4381-86A5-71A6F21D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02A2-DDB6-475B-A260-FF40B5B4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4F308-64FB-404C-B0E9-A223C9EF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71A088-87D3-4B77-8037-00C37704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8EFD61-9969-4E91-851D-FCAC67A9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A192D4-FF08-4625-BAB4-7ED2D383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792B4F-132D-42C4-8DDD-85095C70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CCB0D1-EADE-472B-B3AE-71044F13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C0DA74-BCE4-40A1-804C-BEEBFE5E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8CDC71-4C9B-4E25-B985-8D4669D8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4E158B-6299-4607-8FB6-C51B1A82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6E707C-EE31-4886-B2CF-7850C92F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8D522-3765-4AED-AB60-BCEE68DE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AC5EDC-FB4F-47EA-AF45-570FB6D5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2090E6-BFBC-4E28-8E89-9AC31A65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82F12B-A2D9-4809-A6F1-A17CE8B3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1C3D8-FFF4-4A74-AF4C-AAD11C80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15391-57DD-4AE5-B06B-B13EF34A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A1E54-0586-4F23-81E0-AD801AFD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32857-8FC5-4133-8850-F3C2CEDF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A669E-3425-442B-8D2B-B8AC77FB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146B5-616A-4F2B-9D68-AF9F1023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62A57-F7BD-4C34-B4DE-1ABD9A8B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7D217-0C86-4655-8B3F-4A3B63F3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55088-6782-479B-9A31-91BDB31E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75ABD4-CF00-4B77-ABA0-1A3F1379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FA2D8-67B1-4B01-9074-4D18FE38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E8515-58D7-4905-9073-BB54C5D7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7BC76-D5B9-45BF-8387-93201CE0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DD2A20-1515-41C1-B02C-89DD3092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1A62BC-CFBA-422E-B795-23D6AB28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EA0DD0-CF51-4A4B-8BDA-0FB2FD07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68B03A-2B62-4DD7-9C5D-E271BADB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FEF248-4D77-4962-B137-5B6CBD53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F3590-2346-4F08-8A63-DE518531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BD2C34-CC0A-4120-9CF2-40705FCF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6DAB6F-2DE9-43F6-9546-E35CACE1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28ECE4-F13E-4651-A076-C92C7A3F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2CF69B-1E83-4922-B0B8-E2DF8E7D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11D50D-64BA-4A1A-91D9-AA9024EF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E1846F-804D-4EDF-83EF-9B97513D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F507C6-7F33-4E51-A9D5-AAB353EA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CCE1D0-44E7-4908-83C7-C4C53C8CC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8F5EA8-98DC-4576-985C-7E57A51F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300BA2-BC22-471E-B7F7-73CE4577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04AA0-7954-4BA4-9FE4-52C38447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EC7235-2CB4-4C3F-99D9-461042A3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97185F-B6E9-4AC4-9712-D0E4EA78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323D4B-5D71-40ED-8528-16DE75C9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902147-1147-432F-9E83-4625D8D1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055A1F-48E7-49C0-80E5-95411AF8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CCEDF0-01CC-45F4-B475-501DFA61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93BC45-D98E-4E05-B3E3-96441E1B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0DCC14-87FA-4B3C-B812-4E54C93D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E589C2-356A-494C-828D-6CCF6959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ED6B1-3415-4D37-9B89-CA6C641F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B77FE-C81E-480E-9429-CC4AC800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EF5FD-6BA3-4491-8689-5EF66A9A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02D3-3DC4-43D0-A435-5C48CA62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B9884-1568-4030-9708-F897DFB2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AE680-7EA5-435C-82A5-E8460502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DCED9-BD0E-4632-AE92-CB22B880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C0794-E893-4CA8-8A27-8896F2D7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D53B8-C9EE-4936-8EC7-1B1B75EE8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DA190-9D3F-4A71-8656-E2EB8DD7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E1696-666A-4D62-BF0B-D6329A71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A8539-5B57-45B3-A857-07BBB76D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51FFB-A5CB-4F49-BFB1-CDCB0099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5DA09-AE0B-4F3F-A39C-2B1C3476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A678-F6B4-4AF5-A31A-00FCC4F9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8047F-6DBC-4B1A-8B7F-28B834BD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5B99B-7D4D-4D0C-9AC5-294C3DCD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D84AC-CA62-420F-9CF3-A0C037C0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28A34-A3E1-4479-9860-7D165392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2AC36-9C74-49C7-8565-DD87410B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74505-8FE1-43C7-A3B0-8E041E7D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D88F5-C0EF-4DF7-9D19-FB36EAE9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961B4-F6A4-4767-A76A-C5C1D04B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9E394-9686-44EB-86DB-5DDE02E9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3907B-C151-42C0-A24D-09B15797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E607-802F-4643-A9D7-E7A1C4C0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78B11-7470-423C-BA35-6FDAC8C7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1C353-3677-499D-B786-43FDF9A0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C0E7D-A480-48DC-9099-77256DF6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F351C-17C3-464F-B2A2-2ED0C557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035D4-DBD6-4002-9FF9-22F80B24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3FD77-11E1-471F-B2BB-EA63E6BE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C53D3-06F8-4EE8-A636-CA1206BF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41573-F4C3-48AD-BCFB-4E137969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92804-69A7-447E-A10B-E22ED9F6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5D583-EA39-4480-B493-75F112AB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ED2D-BD46-4C30-943C-1B75BF7B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15401-F23C-4B67-AD25-0BB15515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6AA7D-7CF8-4C1A-8605-06EE88D4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F74D9-F347-4834-B2B3-2BEA9408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DEF59-C64A-4538-B3C6-49FAABE7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13188-FF4D-4917-943D-C03B6151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75EB3-CF86-41BE-B960-92314EBD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2A289-6DAE-490D-944A-DCBE53D1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2BFE3-F8BC-400A-BF32-CFD3B48C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A148B-EFA8-4D18-94C5-69C15C35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EDF12-DE00-4403-8515-66EEC6BC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2499-4262-41D0-995F-42B19DA6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07BC5-6A88-495B-B6FE-7DCB3623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50D48-4894-4D6E-A366-30076538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3CBAA-D456-49C8-8A46-FEEC6660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21DCD-AD87-4982-8A00-21D31BF5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C23C0-ADD4-412F-ADC7-85CC6632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92F0D-8EC5-41A0-97C0-3268BF0A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E6584-29D7-4055-9900-DFFCA5B1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920F0-BDBA-4EA3-B535-ED2EAED1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5A31C-60DA-4D2B-BE52-15B1A491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9F132-2112-4D9D-8B7A-F41FDE38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4994-9102-4DB3-BAF2-9E0FDD75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85463-DD79-4461-9D09-0FDCE24E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B31B5-A297-4EB9-9E4C-FF5CEFA3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3404F-30F5-4254-A72F-37E0D2E0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BD2D0-0A20-4964-B46B-DFEFACFC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003CB-B820-439D-97F0-7D38DCCB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C2436-AE09-4D85-B3FE-B8A10B7E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5C7C9-AEAC-41D6-B070-06C592EE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AF3F1-AC2B-4213-A962-2FC74421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5A1CC-9903-480B-A77E-4F2350CE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A9E57-7365-40C4-AB90-6268CC87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3988-44D3-48CA-8289-50606F24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FC492-9631-4E57-9C76-9A99C88C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806AB-D6F7-41AE-8EB6-7734E4DD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1570C-4A38-410F-8B6E-24787F1D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84807-030E-4808-AD74-40E45816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7806F-6095-403F-81F7-3224EA9C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1887CD-5898-410B-928C-D945959C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37CD6B-3F23-4F04-BA46-89EEE224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FCE93A-C28E-49FB-A8CE-5D4CE134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77042C-725E-4D03-B0AD-C1272D14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318ADB-1DE9-4765-A75C-B61DE04E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E7E8-02BD-4CFE-B67E-0179FD92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4F5128-3501-43CC-9CA3-7C5E462D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875A03-CCF6-479C-84A3-F87AEB47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D7A17B-EDC3-4B6F-90DE-982A97C4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3DDC22-04E4-40C7-8DCC-2369671E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7F6CE6-0781-4279-9FCD-5B9693C2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F66DB7-F922-4F4A-9E11-9A03DA6C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1A10A3-BF86-4983-8F2B-1AD5BB17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4B284-0A9E-4FF1-B3FA-4F28B4B6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7CCB5-E8BC-4878-990B-19DE107F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F1B8F-C413-49F2-B812-FEE37120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F79B-D7D0-45C8-9FA0-2DF2DDBF3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1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0E12-775F-4336-B609-D479353B9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7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6F07-2AB4-474B-926C-250AB3673C6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3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2144-F6AD-4778-A255-DC2A936DD38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dt" idx="3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42CB-448E-44F3-B234-D6F65DDD6E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9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9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3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4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4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ftr" idx="4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sldNum" idx="4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D658-9DFA-4298-8FBD-8FFB5C7D48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E03F-2EED-4EAF-A23A-83A3752E0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87DA-09F3-4F99-BE2B-AB4EB8788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073E-6631-40C3-8AA6-41396A1C9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8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8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8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8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5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2C8E-07F4-456C-9F28-BABB8E31AD7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5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5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6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6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6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6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7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5FA5-F90C-4D7F-AE4D-AE0FD5B95DF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3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3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4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8BB6-2843-4A5C-86AF-DFB7508E4E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9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9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9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0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D722-E7B0-4C22-8046-46DE76B3A6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5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05A2-324E-4684-AECA-F75DC0A33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Khamari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personal learn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239400" y="2558880"/>
            <a:ext cx="866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My Personal Learning Pro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My learning style is tactile/kinesthic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This means that I  learn best by doing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216000" y="2833560"/>
            <a:ext cx="87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My Personal Learning Pro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My learning technique is concrete sequential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That means that I am realistic,orderly,logical and careful of details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4147920" y="432720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52280" y="3351960"/>
            <a:ext cx="857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My intelligence type is physical awar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960" y="373320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This means that I am very well coordin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6120" y="2285280"/>
            <a:ext cx="87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I found out that the left hemisphere of my brain is the same as my right___________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9360" y="2742480"/>
            <a:ext cx="85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and the right hemisphere of my brain is the same as my right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-2405520" y="3246480"/>
            <a:ext cx="247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It’s important to learn how your brain works because if you know how it works you                                                                                                                                                             know what the best way for you to learn is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903960" y="3245760"/>
            <a:ext cx="733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1800" spc="-1" strike="noStrike">
                <a:solidFill>
                  <a:srgbClr val="ffffff"/>
                </a:solidFill>
                <a:latin typeface="Arial"/>
              </a:rPr>
              <a:t>I can use what I have learned about the way my brain works in school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V="1" rot="10800000">
            <a:off x="531360" y="4097160"/>
            <a:ext cx="83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1800" spc="-1" strike="noStrike">
                <a:solidFill>
                  <a:srgbClr val="ffffff"/>
                </a:solidFill>
                <a:latin typeface="Arial"/>
              </a:rPr>
              <a:t>I can do this when I  am at 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8:19:57Z</dcterms:created>
  <dc:creator>student</dc:creator>
  <dc:description/>
  <dc:language>en-US</dc:language>
  <cp:lastModifiedBy>student</cp:lastModifiedBy>
  <dcterms:modified xsi:type="dcterms:W3CDTF">2010-10-27T17:45:31Z</dcterms:modified>
  <cp:revision>6</cp:revision>
  <dc:subject/>
  <dc:title>Khamari</dc:title>
</cp:coreProperties>
</file>